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3.gif" ContentType="image/gif"/>
  <Override PartName="/ppt/media/image6.png" ContentType="image/png"/>
  <Override PartName="/ppt/media/image10.wmf" ContentType="image/x-wm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D2F-7A11-49D1-AA74-5BDEC3730A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4E9-E285-47BA-A00B-56F759A3A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4412-0277-4A51-8D52-C62BB02D4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9DAA-C078-45F2-BD7F-72486A9FE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BD0-6DFB-42FC-9A61-5FEED45F7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FA59-693B-488F-9532-0327900F8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6555-7DBF-40C5-A1A6-129F3E5D7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786-22DF-47F8-BA45-15EDD98B1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4F5-AEB1-4D9F-AA9D-761EFA8EC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3AE7-45CB-4BB1-8D04-F3FFDE3F4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06B-8B2E-4739-B415-E9640AC0C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8C94-DB86-4B1D-95D9-E1E6A010A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BE3-DC3B-47C5-96F6-8D00CC413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5CA3-2265-4261-86A4-425745E8A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82A9-BDD7-468E-8003-C48DEA553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A652-9BB5-4943-AD06-56EC4B664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BE6-107A-49A6-83F1-AB384C0F6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574-3A1C-4A4D-BEBA-70A544A9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606-5F2B-4475-9350-F9D963E0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045-7A5D-4D22-9C1E-78251FCB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A0F-8636-46B6-B028-6FB8A509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BC4-0FDE-4AB0-BC86-70AF6600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34B2-8811-4C74-BE09-7C1EEAB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F32-1EA7-41A8-9CFD-ECEC94C0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297-8ED8-4DA8-B112-4241B05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9AD-B367-4680-AA3F-8799AEE4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D37A-7D93-4572-B135-90CAEF8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E034-13C4-442B-91F3-C518705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2FA-FA57-4DF3-B312-88CA70E4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333-7B76-432E-B652-C049FD89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4F9D-DECF-4AD7-9B75-504CBAA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80B9-1AC3-493D-8BF4-6C8F165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15C-95AB-491B-BF5B-4776EFA6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91B-3263-474B-98F9-7620F8D4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53F-1E0A-45DB-9567-0F4BD2E1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BCE-2BF3-4AA8-A684-B68D1D1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BA9-8011-4146-81B3-6A9DBA4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A12-03C4-4D77-93AF-0210965B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36D-433E-44FF-888B-8FCB7BB9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687-E53A-4CFB-AE01-3CE5908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C8F-891F-4DEC-A7EB-03881E0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D7AE-2DCB-423B-8981-68F0C87F9F4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A1E-CB9E-4F19-AA34-34D18A35B6C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Plural Rules Part O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ian Carru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words end in ‘f’ or ‘fe’ change the ‘f’ or ‘fe’ to a 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‘v’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fore adding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 ‘es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knif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kni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ife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al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of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ife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i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ief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ie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900490000[1]"/>
          <p:cNvPicPr/>
          <p:nvPr/>
        </p:nvPicPr>
        <p:blipFill>
          <a:blip r:embed="rId1"/>
          <a:stretch/>
        </p:blipFill>
        <p:spPr>
          <a:xfrm>
            <a:off x="2700360" y="2708280"/>
            <a:ext cx="644400" cy="48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00490000[1]"/>
          <p:cNvPicPr/>
          <p:nvPr/>
        </p:nvPicPr>
        <p:blipFill>
          <a:blip r:embed="rId2"/>
          <a:stretch/>
        </p:blipFill>
        <p:spPr>
          <a:xfrm>
            <a:off x="6516720" y="2781360"/>
            <a:ext cx="64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Cj02900490000[1]"/>
          <p:cNvPicPr/>
          <p:nvPr/>
        </p:nvPicPr>
        <p:blipFill>
          <a:blip r:embed="rId3"/>
          <a:stretch/>
        </p:blipFill>
        <p:spPr>
          <a:xfrm>
            <a:off x="7236000" y="2781360"/>
            <a:ext cx="6444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3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l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a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lf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xceptions → cliffs, chiefs, roofs, dwarfs and handkerch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word ends in 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o’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comes after a consonant, add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e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make the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toma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tomato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g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go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go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ro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r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lcano →volcan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rpedo→ torpe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MCj02151450000[1]"/>
          <p:cNvPicPr/>
          <p:nvPr/>
        </p:nvPicPr>
        <p:blipFill>
          <a:blip r:embed="rId1"/>
          <a:stretch/>
        </p:blipFill>
        <p:spPr>
          <a:xfrm>
            <a:off x="6516720" y="2492280"/>
            <a:ext cx="1828800" cy="93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MCj02325820000[1]"/>
          <p:cNvPicPr/>
          <p:nvPr/>
        </p:nvPicPr>
        <p:blipFill>
          <a:blip r:embed="rId2"/>
          <a:srcRect l="-1425" t="-1896" r="-2849" b="-3793"/>
          <a:stretch/>
        </p:blipFill>
        <p:spPr>
          <a:xfrm>
            <a:off x="2843280" y="2565360"/>
            <a:ext cx="1341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3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3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3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at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vocad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squit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in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uffal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ngo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xceptions → pianos, banjos, solos, radios and Eskim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s 7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word may completely change its form when a plural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hil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peo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oose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n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ma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ctus →cact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ngus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ng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j0283653"/>
          <p:cNvPicPr/>
          <p:nvPr/>
        </p:nvPicPr>
        <p:blipFill>
          <a:blip r:embed="rId1"/>
          <a:stretch/>
        </p:blipFill>
        <p:spPr>
          <a:xfrm>
            <a:off x="2916360" y="2781360"/>
            <a:ext cx="101916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j0283655"/>
          <p:cNvPicPr/>
          <p:nvPr/>
        </p:nvPicPr>
        <p:blipFill>
          <a:blip r:embed="rId2"/>
          <a:stretch/>
        </p:blipFill>
        <p:spPr>
          <a:xfrm>
            <a:off x="6659640" y="2852640"/>
            <a:ext cx="533160" cy="8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j0283651"/>
          <p:cNvPicPr/>
          <p:nvPr/>
        </p:nvPicPr>
        <p:blipFill>
          <a:blip r:embed="rId3"/>
          <a:stretch/>
        </p:blipFill>
        <p:spPr>
          <a:xfrm>
            <a:off x="7308720" y="2852640"/>
            <a:ext cx="638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3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3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3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oot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ce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oot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ucleu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riterion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a word may stay the same in both it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ing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lur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f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n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un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out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er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ep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os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o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ries 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ri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j0336585"/>
          <p:cNvPicPr/>
          <p:nvPr/>
        </p:nvPicPr>
        <p:blipFill>
          <a:blip r:embed="rId1"/>
          <a:stretch/>
        </p:blipFill>
        <p:spPr>
          <a:xfrm>
            <a:off x="2340000" y="2781360"/>
            <a:ext cx="8668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356730"/>
          <p:cNvPicPr/>
          <p:nvPr/>
        </p:nvPicPr>
        <p:blipFill>
          <a:blip r:embed="rId2"/>
          <a:stretch/>
        </p:blipFill>
        <p:spPr>
          <a:xfrm>
            <a:off x="6516720" y="2276640"/>
            <a:ext cx="102852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3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3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3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3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pecie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ffspring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m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ream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h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Recap and Consolid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asiest way to learn how to spell a word is to practice! Practice! Pract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lling rules are helpful but practice makes per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ce you learn how to spell a word you will not forget how to spell it as long as you practice! Practice! Pract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 what did you think of t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words 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add ‘s’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make the pl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ap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le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k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th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ook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cc0f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GB" sz="32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apple"/>
          <p:cNvPicPr/>
          <p:nvPr/>
        </p:nvPicPr>
        <p:blipFill>
          <a:blip r:embed="rId1"/>
          <a:stretch/>
        </p:blipFill>
        <p:spPr>
          <a:xfrm>
            <a:off x="2987640" y="220500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pple"/>
          <p:cNvPicPr/>
          <p:nvPr/>
        </p:nvPicPr>
        <p:blipFill>
          <a:blip r:embed="rId2"/>
          <a:stretch/>
        </p:blipFill>
        <p:spPr>
          <a:xfrm>
            <a:off x="6443640" y="220500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pple"/>
          <p:cNvPicPr/>
          <p:nvPr/>
        </p:nvPicPr>
        <p:blipFill>
          <a:blip r:embed="rId3"/>
          <a:stretch/>
        </p:blipFill>
        <p:spPr>
          <a:xfrm>
            <a:off x="6948360" y="2205000"/>
            <a:ext cx="46692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ci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oad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lower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irl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lant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oor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ke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anana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oe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‘e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words ending in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‘ch’, ‘sh’, ‘s’, ‘ss’,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‘x’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‘z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make the plur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box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e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s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s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a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ac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o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cros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ltz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ltz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e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x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x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n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    bunch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e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j02909360000[1]"/>
          <p:cNvPicPr/>
          <p:nvPr/>
        </p:nvPicPr>
        <p:blipFill>
          <a:blip r:embed="rId1"/>
          <a:stretch/>
        </p:blipFill>
        <p:spPr>
          <a:xfrm>
            <a:off x="2340000" y="2565360"/>
            <a:ext cx="601560" cy="51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j0284003"/>
          <p:cNvPicPr/>
          <p:nvPr/>
        </p:nvPicPr>
        <p:blipFill>
          <a:blip r:embed="rId2"/>
          <a:stretch/>
        </p:blipFill>
        <p:spPr>
          <a:xfrm>
            <a:off x="5435640" y="2276640"/>
            <a:ext cx="952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z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itc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x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las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a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las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ress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us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tc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tch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he letter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y’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consonant, chang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y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i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fore adding an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e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ba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bab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it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rr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rr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ny → pon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mil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mil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ply → repl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i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d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d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1" descr="j0365298"/>
          <p:cNvPicPr/>
          <p:nvPr/>
        </p:nvPicPr>
        <p:blipFill>
          <a:blip r:embed="rId1"/>
          <a:stretch/>
        </p:blipFill>
        <p:spPr>
          <a:xfrm>
            <a:off x="6156360" y="2421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j0365298"/>
          <p:cNvPicPr/>
          <p:nvPr/>
        </p:nvPicPr>
        <p:blipFill>
          <a:blip r:embed="rId2"/>
          <a:stretch/>
        </p:blipFill>
        <p:spPr>
          <a:xfrm>
            <a:off x="7164360" y="2492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AG00320_"/>
          <p:cNvPicPr/>
          <p:nvPr/>
        </p:nvPicPr>
        <p:blipFill>
          <a:blip r:embed="rId3"/>
          <a:stretch/>
        </p:blipFill>
        <p:spPr>
          <a:xfrm>
            <a:off x="2771640" y="2565360"/>
            <a:ext cx="1105200" cy="101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"/>
          <p:cNvPicPr/>
          <p:nvPr/>
        </p:nvPicPr>
        <p:blipFill>
          <a:blip r:embed="rId4"/>
          <a:stretch/>
        </p:blipFill>
        <p:spPr>
          <a:xfrm>
            <a:off x="3203640" y="242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598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ais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err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rm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t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ar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erry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el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jel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ill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lural Ru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ords end in ‘ay’, ‘ey’, ‘iy’, ’oy’, and ‘uy’ add an 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</a:rPr>
              <a:t>‘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make the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donke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donke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a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y 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ke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la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la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lay →</a:t>
            </a:r>
            <a:r>
              <a:rPr b="0" lang="en-GB" sz="2800" spc="-1" strike="noStrike">
                <a:solidFill>
                  <a:srgbClr val="cc0f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la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gu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uy</a:t>
            </a:r>
            <a:r>
              <a:rPr b="0" lang="en-GB" sz="2800" spc="-1" strike="noStrike" u="sng">
                <a:solidFill>
                  <a:srgbClr val="cc0f00"/>
                </a:solidFill>
                <a:uFillTx/>
                <a:latin typeface="Arial"/>
                <a:ea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MCj03013000000[1]"/>
          <p:cNvPicPr/>
          <p:nvPr/>
        </p:nvPicPr>
        <p:blipFill>
          <a:blip r:embed="rId1"/>
          <a:stretch/>
        </p:blipFill>
        <p:spPr>
          <a:xfrm>
            <a:off x="3203640" y="2708280"/>
            <a:ext cx="90000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Cj03013000000[1]"/>
          <p:cNvPicPr/>
          <p:nvPr/>
        </p:nvPicPr>
        <p:blipFill>
          <a:blip r:embed="rId2"/>
          <a:stretch/>
        </p:blipFill>
        <p:spPr>
          <a:xfrm>
            <a:off x="7812000" y="2276640"/>
            <a:ext cx="900360" cy="86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Cj03013000000[1]"/>
          <p:cNvPicPr/>
          <p:nvPr/>
        </p:nvPicPr>
        <p:blipFill>
          <a:blip r:embed="rId3"/>
          <a:stretch/>
        </p:blipFill>
        <p:spPr>
          <a:xfrm>
            <a:off x="7380360" y="2852640"/>
            <a:ext cx="900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3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alle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a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lle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o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ke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olle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uo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lay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liday 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8:45:57Z</dcterms:created>
  <dc:creator>Brian Carruthers</dc:creator>
  <dc:description/>
  <cp:keywords>Plural Rules (Spelling)</cp:keywords>
  <dc:language>en-US</dc:language>
  <cp:lastModifiedBy>teacher</cp:lastModifiedBy>
  <dcterms:modified xsi:type="dcterms:W3CDTF">2010-10-08T17:48:40Z</dcterms:modified>
  <cp:revision>19</cp:revision>
  <dc:subject>Spelling</dc:subject>
  <dc:title>Plural Rules</dc:title>
</cp:coreProperties>
</file>